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2.pct" ContentType="image/x-pict"/>
  <Override PartName="/ppt/media/image13.pct" ContentType="image/x-pi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7760" cy="37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1" lang="en-US" sz="5000" spc="-1" strike="noStrike">
                <a:solidFill>
                  <a:srgbClr val="ffc800"/>
                </a:solidFill>
                <a:latin typeface="Corbel"/>
              </a:rPr>
              <a:t>Click to move the slide</a:t>
            </a: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176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 type="dt" idx="28"/>
          </p:nvPr>
        </p:nvSpPr>
        <p:spPr>
          <a:xfrm>
            <a:off x="4398480" y="-360"/>
            <a:ext cx="337212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 type="ftr" idx="29"/>
          </p:nvPr>
        </p:nvSpPr>
        <p:spPr>
          <a:xfrm>
            <a:off x="0" y="9555120"/>
            <a:ext cx="337176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6"/>
          <p:cNvSpPr>
            <a:spLocks noGrp="1"/>
          </p:cNvSpPr>
          <p:nvPr>
            <p:ph type="sldNum" idx="30"/>
          </p:nvPr>
        </p:nvSpPr>
        <p:spPr>
          <a:xfrm>
            <a:off x="439848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BCD2B0-E546-405C-BEE6-6BFB6D11150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06E9D8-F583-468E-A835-76D94B68D9F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3F5766-E9C0-4594-A761-DA88F2EDFAC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B7DE50-F909-491F-B5A8-0AC35B768D6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A49295-3A6C-4B1A-A708-C058D3B1CB1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63F79D-525D-4F56-A0FD-3C7034413C5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5FFB74-2A75-4146-8ED1-A36113FA662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269203-AA15-4C03-9C82-763F20D0DC3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427743-602C-4738-93CC-73D06509552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332605-4C29-4181-8DFB-AB7ED903C72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5DB7D9-0608-4A79-9D84-88C94A16DD9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60E066-F51C-4ECB-994A-21FD9DCF3A2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4EF7E1-C0CE-4C3A-B92F-72E1D527718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261D1-F072-43B7-9BD9-450D13659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90741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3280" y="4620960"/>
            <a:ext cx="90741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FB81E-E0D7-4098-98C8-82BD18CC2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442800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153040" y="1957320"/>
            <a:ext cx="442800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A9E4F9-2A6F-460A-A231-0918CA4EF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88907E-BC50-4BC6-88EF-9A1D96821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503280" y="168120"/>
            <a:ext cx="9074160" cy="63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03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D57034-F27B-40DE-9C53-08BD2D796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5153040" y="1957320"/>
            <a:ext cx="442800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03280" y="462096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1936FB-E681-436D-A1CA-50C33DB63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442800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515304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5153040" y="462096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A63FE0-19C2-4FB5-AE38-687A14340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515304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503280" y="4620960"/>
            <a:ext cx="90741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BD8F93-C013-4576-9A3A-9FD5C76AE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90741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503280" y="4620960"/>
            <a:ext cx="90741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2507BC-40E9-4552-A4D8-250A084EB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515304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503280" y="462096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5153040" y="462096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1427D6-1DFE-4CDD-B710-606869D74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571560" y="195732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639840" y="195732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503280" y="462096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571560" y="462096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639840" y="462096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E54E1F-D313-4245-8519-39A163BDA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304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3280" y="462096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53040" y="462096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B9D40-8314-468B-B909-DCBB53F52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71560" y="195732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39840" y="195732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3280" y="462096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71560" y="462096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639840" y="462096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BF459-3BD1-419A-AA42-3BEB94646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B04B9-4289-463F-946D-B2529CB8A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503280" y="1957320"/>
            <a:ext cx="9074160" cy="509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03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15055-3A7D-431D-A4A6-7445C98F5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907416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12792-CCAF-4C3F-8B67-60EEDA153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442800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3040" y="1957320"/>
            <a:ext cx="442800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65D5A-A2F5-410A-9A9D-86B946F4B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FB52A-256C-45DD-AEB4-7B695B977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503280" y="168120"/>
            <a:ext cx="9074160" cy="63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03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3B96A-738E-47C4-AB39-535642067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53040" y="1957320"/>
            <a:ext cx="442800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3280" y="462096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75EE1-E35E-4F06-9CC1-1B45CF13F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03280" y="1957320"/>
            <a:ext cx="9074160" cy="509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03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22EA2-E5DA-4002-9A69-C446FFEEB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442800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5304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153040" y="462096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ED69F-C645-4EB8-B2AC-B2816838A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5304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3280" y="4620960"/>
            <a:ext cx="90741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52E01-D348-4769-9750-04078000F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90741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3280" y="4620960"/>
            <a:ext cx="90741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DD495-BA72-4D02-BF82-D4551FE67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15304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03280" y="462096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153040" y="462096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4D7EC-971E-4E06-A97F-704F5157F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571560" y="195732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639840" y="195732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3280" y="462096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571560" y="462096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639840" y="462096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ABADB-4F22-47A2-BE06-C15AE8523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248EB9-6AFB-4A2D-B3E8-7F14047B2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503280" y="1957320"/>
            <a:ext cx="9074160" cy="509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03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B0C5F7-5786-4CA4-8C04-436970069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907416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5377F1-5773-4AB1-A42D-60EF4BEE8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442800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153040" y="1957320"/>
            <a:ext cx="442800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DCD124-AFB1-4D62-A5EC-9B030B995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181A97-7F6D-499B-AC94-1937A0E12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907416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B73F2-A5DE-4416-A1A3-3D056F354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503280" y="168120"/>
            <a:ext cx="9074160" cy="63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03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FE7978-35E7-4619-A315-5F5B4C07B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153040" y="1957320"/>
            <a:ext cx="442800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03280" y="462096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022D22-6D0A-49AB-907F-F726DCAB7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442800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15304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5153040" y="462096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07BE22-00EA-4DCE-994F-54DE3FD90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5304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503280" y="4620960"/>
            <a:ext cx="90741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A56994-7B5D-46AA-8097-C181AE9D3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90741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03280" y="4620960"/>
            <a:ext cx="90741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F4C353-723B-4613-A092-825C64645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15304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03280" y="462096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153040" y="462096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B69970-B5EA-429E-B55E-A7C13BFE1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571560" y="195732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639840" y="195732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503280" y="462096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571560" y="462096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639840" y="462096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0FB043-990B-4814-8B91-226D5BDF5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3C614C-030D-4F79-8494-3D94D291B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3280" y="1957320"/>
            <a:ext cx="9074160" cy="509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03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2E807C-3157-4B0F-B960-9E62DF130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907416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002F0F-A619-46E1-83A6-CFEAFF620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442800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53040" y="1957320"/>
            <a:ext cx="442800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BE441-0951-4566-BEC2-C91E4DD8A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442800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153040" y="1957320"/>
            <a:ext cx="442800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14B5BB-6D20-4DB1-AFF5-29A2ECB19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C6EDA3-124F-420C-A1E7-585EC1A46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3280" y="168120"/>
            <a:ext cx="9074160" cy="63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03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A6EE08-9B67-4E65-8D69-6D9F93455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153040" y="1957320"/>
            <a:ext cx="442800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3280" y="462096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89FD25-F45C-4187-A5EC-F0879A8B8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442800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515304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5153040" y="462096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99418A-85D7-4A45-93BD-D4AE44AF3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515304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3280" y="4620960"/>
            <a:ext cx="90741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016F70-5E6D-4AC0-ADD1-4B8D4E199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90741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3280" y="4620960"/>
            <a:ext cx="90741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ACEF9B-C094-487F-A3F3-53C1C460B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515304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462096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5153040" y="462096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3EF3AA-A85D-46E5-8C92-6025FB8B1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571560" y="195732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639840" y="195732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3280" y="462096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571560" y="462096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639840" y="462096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59FDBF-A439-48A7-B511-2CC858185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55662F-6535-42AC-A12E-B278343B0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D0595-7AE6-4DE3-A7ED-5D5FB5CE5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503280" y="1957320"/>
            <a:ext cx="9074160" cy="509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03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3429D5-2FAA-4825-BE9A-5E377213C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907416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71C8CB-8B26-47A4-84EC-556AE4BEE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442800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153040" y="1957320"/>
            <a:ext cx="442800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44A6DC-40D5-48C6-8FC1-3BD49EA13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A79C80-7BF1-4373-81C1-449E7FEBA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503280" y="168120"/>
            <a:ext cx="9074160" cy="63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03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52D9E6-C00E-4B25-B457-6D40825F4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5153040" y="1957320"/>
            <a:ext cx="442800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503280" y="462096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0BFC57-76E3-47A0-8DEB-105F36A29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442800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515304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5153040" y="462096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C7F28E-A4D0-4B1A-8CA9-35D7649A0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515304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03280" y="4620960"/>
            <a:ext cx="90741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D925C9-78B3-4C6D-84D4-E8F797BEB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90741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03280" y="4620960"/>
            <a:ext cx="90741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A499E9-3F1C-4200-9E5E-6B05765C4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515304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503280" y="462096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5153040" y="462096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D2ACBE-B816-4173-B8D5-E8C75A6FC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03280" y="168120"/>
            <a:ext cx="9074160" cy="63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03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5C3BC-5716-4541-AABB-C1F0DF4DA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571560" y="195732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639840" y="195732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503280" y="462096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571560" y="462096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639840" y="462096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9089AF-A800-43C5-8ED6-19AB1F377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32F3F4-DB57-45A8-BED8-0DD7A94D4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503280" y="1957320"/>
            <a:ext cx="9074160" cy="509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03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D06DCE-2B2E-407E-9891-2D16E2A17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907416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4E0E8A-2912-4DA6-B0E6-4D3A5CB60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442800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5153040" y="1957320"/>
            <a:ext cx="442800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5130F2-B6BF-4981-BD61-6B22CD4B0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35261F-68E6-42B3-8957-707B412F2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503280" y="168120"/>
            <a:ext cx="9074160" cy="63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03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319956-6699-477E-A7EF-0471CC832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5153040" y="1957320"/>
            <a:ext cx="442800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503280" y="462096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2E1017-B49D-4E52-BD6E-7D4B9F6DE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442800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515304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5153040" y="462096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8A3BE0-CA67-46CA-9F24-52E37129C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515304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503280" y="4620960"/>
            <a:ext cx="90741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5B5C90-4699-4401-8FE8-73163F15C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53040" y="1957320"/>
            <a:ext cx="442800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03280" y="462096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62488-18F9-416A-B9EC-2D6C76312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90741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03280" y="4620960"/>
            <a:ext cx="90741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AA87D7-4443-49B3-902B-4B8439BA7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15304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03280" y="462096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5153040" y="462096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57D4DD-60D5-4815-9862-77C8A7F84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571560" y="195732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639840" y="195732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503280" y="462096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571560" y="462096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639840" y="462096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3A05EA-1F69-4884-9EB3-704875A6F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D4803A-55FD-455C-AE33-6F0C2E78F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503280" y="1957320"/>
            <a:ext cx="9074160" cy="509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03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4998F1-805A-48AB-8EB9-4A21AFBD1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907416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06C010-D567-42C0-8836-A5396C709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442800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5153040" y="1957320"/>
            <a:ext cx="442800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E766A5-4DFA-4802-BBEB-300977EB3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535471-E537-46AD-9EA7-CDC519B27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503280" y="168120"/>
            <a:ext cx="9074160" cy="63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03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30AFA4-4D85-4301-B870-EE8F200A7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5153040" y="1957320"/>
            <a:ext cx="442800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03280" y="462096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D044EC-F060-45EF-BF40-5FC9A9E73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442800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5304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53040" y="462096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F52C4-B10D-4FB9-A83A-F2C8D98CB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442800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515304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153040" y="462096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683FAE-F78A-47B2-BB3C-2B725F07C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515304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503280" y="4620960"/>
            <a:ext cx="90741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54D63A-D7CD-40FF-9C05-934E45CE5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90741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503280" y="4620960"/>
            <a:ext cx="90741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761B02-4B71-41FF-901E-2013F3ED5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15304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503280" y="462096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5153040" y="462096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CDA767-C484-4FA6-9F11-529AD45B1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571560" y="195732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639840" y="195732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503280" y="462096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571560" y="462096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639840" y="462096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247FB2-E737-4512-9D51-175FF0270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5A28F8-B768-4835-8695-F5F34BFBD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3280" y="1957320"/>
            <a:ext cx="9074160" cy="509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03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CA3C1E-F938-41ED-BC0F-7C94933C3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907416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57FB30-0DDB-4012-B14D-DA2B11C16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442800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5153040" y="1957320"/>
            <a:ext cx="442800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CD06F6-0204-4FD1-B5C2-576E49B6D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C89852-8D6E-43C5-AA14-EA4C68A4A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5304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3280" y="4620960"/>
            <a:ext cx="90741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A90D6-9F18-4629-9717-17CD8B587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3280" y="168120"/>
            <a:ext cx="9074160" cy="63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03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614E4D-59E4-445A-9DCB-72D787D96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5153040" y="1957320"/>
            <a:ext cx="442800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3280" y="462096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CDDF22-B172-47BB-95DA-98693005B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442800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515304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5153040" y="462096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201AEF-CF45-43E4-B42A-05C73B07B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515304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3280" y="4620960"/>
            <a:ext cx="90741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65BA72-49D8-4760-A9E3-7166D7182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90741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3280" y="4620960"/>
            <a:ext cx="90741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A46B37-53F8-4BFF-9C87-F355A4F93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515304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3280" y="462096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5153040" y="462096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9D3EB4-BE4A-4DEA-AB1F-CB9730983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571560" y="195732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639840" y="195732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3280" y="462096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571560" y="462096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639840" y="462096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1BC3D2-D1A7-43EB-8CA9-086940341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98B58F-4ED9-4C29-9B5D-760F53D97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503280" y="1957320"/>
            <a:ext cx="9074160" cy="509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03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8CA582-6206-454B-8A42-5E70CD41B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907416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42CF58-4E9E-4BF4-87A5-69EB6D10A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1582560"/>
            <a:ext cx="10080720" cy="511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0800" rIns="100800" tIns="720" bIns="72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6"/>
          <p:cNvSpPr/>
          <p:nvPr/>
        </p:nvSpPr>
        <p:spPr>
          <a:xfrm>
            <a:off x="0" y="0"/>
            <a:ext cx="10080720" cy="1581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503280" y="1957320"/>
            <a:ext cx="907416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marL="482760" indent="-3524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1" marL="804960" indent="-3016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2" marL="1098720" indent="-25092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3" marL="1339920" indent="-20016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4" marL="1571760" indent="-20016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5" marL="1571760" indent="-20016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6" marL="1571760" indent="-20016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502920" y="7139160"/>
            <a:ext cx="2352600" cy="303120"/>
          </a:xfrm>
          <a:prstGeom prst="rect">
            <a:avLst/>
          </a:prstGeom>
          <a:noFill/>
          <a:ln w="0">
            <a:noFill/>
          </a:ln>
        </p:spPr>
        <p:txBody>
          <a:bodyPr lIns="120960" rIns="50400" tIns="5040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911320" y="7139160"/>
            <a:ext cx="6072480" cy="303120"/>
          </a:xfrm>
          <a:prstGeom prst="rect">
            <a:avLst/>
          </a:prstGeom>
          <a:noFill/>
          <a:ln w="0">
            <a:noFill/>
          </a:ln>
        </p:spPr>
        <p:txBody>
          <a:bodyPr lIns="50400" rIns="50400" tIns="5040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9043560" y="7139160"/>
            <a:ext cx="809640" cy="30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3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3F0147-D33A-46BD-BD16-97D9D72CF3E2}" type="slidenum">
              <a:rPr b="0" lang="en-GB" sz="13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0" y="0"/>
            <a:ext cx="10080720" cy="5661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0"/>
          <p:cNvSpPr/>
          <p:nvPr/>
        </p:nvSpPr>
        <p:spPr>
          <a:xfrm>
            <a:off x="0" y="5653080"/>
            <a:ext cx="10080720" cy="507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0800" rIns="100800" tIns="360" bIns="36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503280" y="1957320"/>
            <a:ext cx="907416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marL="482760" indent="-3524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500" spc="-1" strike="noStrike">
              <a:solidFill>
                <a:srgbClr val="ffffff"/>
              </a:solidFill>
              <a:latin typeface="Corbel"/>
            </a:endParaRPr>
          </a:p>
          <a:p>
            <a:pPr lvl="1" marL="804960" indent="-3016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500" spc="-1" strike="noStrike">
              <a:solidFill>
                <a:srgbClr val="ffffff"/>
              </a:solidFill>
              <a:latin typeface="Corbel"/>
            </a:endParaRPr>
          </a:p>
          <a:p>
            <a:pPr lvl="2" marL="1098720" indent="-25092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500" spc="-1" strike="noStrike">
              <a:solidFill>
                <a:srgbClr val="ffffff"/>
              </a:solidFill>
              <a:latin typeface="Corbel"/>
            </a:endParaRPr>
          </a:p>
          <a:p>
            <a:pPr lvl="3" marL="1339920" indent="-20016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500" spc="-1" strike="noStrike">
              <a:solidFill>
                <a:srgbClr val="ffffff"/>
              </a:solidFill>
              <a:latin typeface="Corbel"/>
            </a:endParaRPr>
          </a:p>
          <a:p>
            <a:pPr lvl="4" marL="1571760" indent="-20016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500" spc="-1" strike="noStrike">
              <a:solidFill>
                <a:srgbClr val="ffffff"/>
              </a:solidFill>
              <a:latin typeface="Corbel"/>
            </a:endParaRPr>
          </a:p>
          <a:p>
            <a:pPr lvl="5" marL="1571760" indent="-20016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500" spc="-1" strike="noStrike">
              <a:solidFill>
                <a:srgbClr val="ffffff"/>
              </a:solidFill>
              <a:latin typeface="Corbel"/>
            </a:endParaRPr>
          </a:p>
          <a:p>
            <a:pPr lvl="6" marL="1571760" indent="-20016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5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502920" y="7139160"/>
            <a:ext cx="2352600" cy="303120"/>
          </a:xfrm>
          <a:prstGeom prst="rect">
            <a:avLst/>
          </a:prstGeom>
          <a:noFill/>
          <a:ln w="0">
            <a:noFill/>
          </a:ln>
        </p:spPr>
        <p:txBody>
          <a:bodyPr lIns="120960" rIns="50400" tIns="50400" bIns="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75AC79B-D23A-4CBF-9C17-696AEE9D3298}" type="datetime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911320" y="7139160"/>
            <a:ext cx="6072480" cy="303120"/>
          </a:xfrm>
          <a:prstGeom prst="rect">
            <a:avLst/>
          </a:prstGeom>
          <a:noFill/>
          <a:ln w="0">
            <a:noFill/>
          </a:ln>
        </p:spPr>
        <p:txBody>
          <a:bodyPr lIns="50400" rIns="50400" tIns="5040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9043560" y="7139160"/>
            <a:ext cx="809640" cy="30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26D2AC-C016-4847-B743-A8AD6F013C83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8"/>
          <p:cNvSpPr/>
          <p:nvPr/>
        </p:nvSpPr>
        <p:spPr>
          <a:xfrm>
            <a:off x="0" y="0"/>
            <a:ext cx="10080720" cy="2868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0" y="2868480"/>
            <a:ext cx="10080720" cy="507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0800" rIns="100800" tIns="360" bIns="36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503280" y="1957320"/>
            <a:ext cx="907416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marL="482760" indent="-3524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500" spc="-1" strike="noStrike">
              <a:solidFill>
                <a:srgbClr val="ffffff"/>
              </a:solidFill>
              <a:latin typeface="Corbel"/>
            </a:endParaRPr>
          </a:p>
          <a:p>
            <a:pPr lvl="1" marL="804960" indent="-3016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500" spc="-1" strike="noStrike">
              <a:solidFill>
                <a:srgbClr val="ffffff"/>
              </a:solidFill>
              <a:latin typeface="Corbel"/>
            </a:endParaRPr>
          </a:p>
          <a:p>
            <a:pPr lvl="2" marL="1098720" indent="-25092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500" spc="-1" strike="noStrike">
              <a:solidFill>
                <a:srgbClr val="ffffff"/>
              </a:solidFill>
              <a:latin typeface="Corbel"/>
            </a:endParaRPr>
          </a:p>
          <a:p>
            <a:pPr lvl="3" marL="1339920" indent="-20016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500" spc="-1" strike="noStrike">
              <a:solidFill>
                <a:srgbClr val="ffffff"/>
              </a:solidFill>
              <a:latin typeface="Corbel"/>
            </a:endParaRPr>
          </a:p>
          <a:p>
            <a:pPr lvl="4" marL="1571760" indent="-20016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500" spc="-1" strike="noStrike">
              <a:solidFill>
                <a:srgbClr val="ffffff"/>
              </a:solidFill>
              <a:latin typeface="Corbel"/>
            </a:endParaRPr>
          </a:p>
          <a:p>
            <a:pPr lvl="5" marL="1571760" indent="-20016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500" spc="-1" strike="noStrike">
              <a:solidFill>
                <a:srgbClr val="ffffff"/>
              </a:solidFill>
              <a:latin typeface="Corbel"/>
            </a:endParaRPr>
          </a:p>
          <a:p>
            <a:pPr lvl="6" marL="1571760" indent="-20016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5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502920" y="7139160"/>
            <a:ext cx="2352600" cy="303120"/>
          </a:xfrm>
          <a:prstGeom prst="rect">
            <a:avLst/>
          </a:prstGeom>
          <a:noFill/>
          <a:ln w="0">
            <a:noFill/>
          </a:ln>
        </p:spPr>
        <p:txBody>
          <a:bodyPr lIns="120960" rIns="50400" tIns="50400" bIns="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F51E96-A4C4-4EAF-BB58-86A89C4A4097}" type="datetime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911320" y="7139160"/>
            <a:ext cx="6072480" cy="303120"/>
          </a:xfrm>
          <a:prstGeom prst="rect">
            <a:avLst/>
          </a:prstGeom>
          <a:noFill/>
          <a:ln w="0">
            <a:noFill/>
          </a:ln>
        </p:spPr>
        <p:txBody>
          <a:bodyPr lIns="50400" rIns="50400" tIns="5040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9043560" y="7139160"/>
            <a:ext cx="809640" cy="30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E22A8F6-28AD-4412-9B6D-98350CDFE842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3280" y="1957320"/>
            <a:ext cx="907416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marL="482760" indent="-3524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1" marL="804960" indent="-3016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2" marL="1098720" indent="-25092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3" marL="1339920" indent="-20016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4" marL="1571760" indent="-20016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5" marL="1571760" indent="-20016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6" marL="1571760" indent="-20016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502920" y="7139160"/>
            <a:ext cx="2352600" cy="303120"/>
          </a:xfrm>
          <a:prstGeom prst="rect">
            <a:avLst/>
          </a:prstGeom>
          <a:noFill/>
          <a:ln w="0">
            <a:noFill/>
          </a:ln>
        </p:spPr>
        <p:txBody>
          <a:bodyPr lIns="120960" rIns="50400" tIns="5040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911320" y="7139160"/>
            <a:ext cx="6072480" cy="303120"/>
          </a:xfrm>
          <a:prstGeom prst="rect">
            <a:avLst/>
          </a:prstGeom>
          <a:noFill/>
          <a:ln w="0">
            <a:noFill/>
          </a:ln>
        </p:spPr>
        <p:txBody>
          <a:bodyPr lIns="50400" rIns="50400" tIns="5040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9043560" y="7139160"/>
            <a:ext cx="809640" cy="30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3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E9FBAE-7415-406B-9225-EB075E5D8F65}" type="slidenum">
              <a:rPr b="0" lang="en-GB" sz="13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9"/>
          <p:cNvSpPr/>
          <p:nvPr/>
        </p:nvSpPr>
        <p:spPr>
          <a:xfrm>
            <a:off x="0" y="1582560"/>
            <a:ext cx="10080720" cy="511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0800" rIns="100800" tIns="720" bIns="72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0" y="0"/>
            <a:ext cx="10080720" cy="1581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8"/>
          <p:cNvSpPr/>
          <p:nvPr/>
        </p:nvSpPr>
        <p:spPr>
          <a:xfrm>
            <a:off x="3147840" y="0"/>
            <a:ext cx="51120" cy="16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0"/>
          <p:cNvSpPr/>
          <p:nvPr/>
        </p:nvSpPr>
        <p:spPr>
          <a:xfrm>
            <a:off x="3147840" y="0"/>
            <a:ext cx="51120" cy="16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503280" y="1957320"/>
            <a:ext cx="907416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marL="482760" indent="-3524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1" marL="804960" indent="-3016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2" marL="1098720" indent="-25092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3" marL="1339920" indent="-20016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4" marL="1571760" indent="-20016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5" marL="1571760" indent="-20016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6" marL="1571760" indent="-20016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502920" y="7139160"/>
            <a:ext cx="2352600" cy="303120"/>
          </a:xfrm>
          <a:prstGeom prst="rect">
            <a:avLst/>
          </a:prstGeom>
          <a:noFill/>
          <a:ln w="0">
            <a:noFill/>
          </a:ln>
        </p:spPr>
        <p:txBody>
          <a:bodyPr lIns="120960" rIns="50400" tIns="5040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911320" y="7139160"/>
            <a:ext cx="6072480" cy="303120"/>
          </a:xfrm>
          <a:prstGeom prst="rect">
            <a:avLst/>
          </a:prstGeom>
          <a:noFill/>
          <a:ln w="0">
            <a:noFill/>
          </a:ln>
        </p:spPr>
        <p:txBody>
          <a:bodyPr lIns="50400" rIns="50400" tIns="5040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9043560" y="7139160"/>
            <a:ext cx="809640" cy="30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3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6237C7-58CB-441E-A65D-1A74DFFC4714}" type="slidenum">
              <a:rPr b="0" lang="en-GB" sz="13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9"/>
          <p:cNvSpPr/>
          <p:nvPr/>
        </p:nvSpPr>
        <p:spPr>
          <a:xfrm>
            <a:off x="0" y="1582560"/>
            <a:ext cx="10080720" cy="511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0800" rIns="100800" tIns="720" bIns="72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6"/>
          <p:cNvSpPr/>
          <p:nvPr/>
        </p:nvSpPr>
        <p:spPr>
          <a:xfrm>
            <a:off x="0" y="0"/>
            <a:ext cx="10080720" cy="1581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8"/>
          <p:cNvSpPr/>
          <p:nvPr/>
        </p:nvSpPr>
        <p:spPr>
          <a:xfrm>
            <a:off x="3147840" y="0"/>
            <a:ext cx="51120" cy="755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10"/>
          <p:cNvSpPr/>
          <p:nvPr/>
        </p:nvSpPr>
        <p:spPr>
          <a:xfrm>
            <a:off x="3147840" y="0"/>
            <a:ext cx="51120" cy="755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503280" y="1957320"/>
            <a:ext cx="907416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marL="482760" indent="-3524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1" marL="804960" indent="-3016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2" marL="1098720" indent="-25092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3" marL="1339920" indent="-20016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4" marL="1571760" indent="-20016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5" marL="1571760" indent="-20016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6" marL="1571760" indent="-20016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181080" y="1290240"/>
            <a:ext cx="2782800" cy="220680"/>
          </a:xfrm>
          <a:prstGeom prst="rect">
            <a:avLst/>
          </a:prstGeom>
          <a:noFill/>
          <a:ln w="0">
            <a:noFill/>
          </a:ln>
        </p:spPr>
        <p:txBody>
          <a:bodyPr lIns="120960" rIns="50400" tIns="5040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346560" y="1290240"/>
            <a:ext cx="5726160" cy="220680"/>
          </a:xfrm>
          <a:prstGeom prst="rect">
            <a:avLst/>
          </a:prstGeom>
          <a:noFill/>
          <a:ln w="0">
            <a:noFill/>
          </a:ln>
        </p:spPr>
        <p:txBody>
          <a:bodyPr lIns="50400" rIns="50400" tIns="5040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9192960" y="1290240"/>
            <a:ext cx="809640" cy="220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3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F1636C-563C-47D2-9CD3-A040759F4B0C}" type="slidenum">
              <a:rPr b="0" lang="en-GB" sz="13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8"/>
          <p:cNvSpPr/>
          <p:nvPr/>
        </p:nvSpPr>
        <p:spPr>
          <a:xfrm>
            <a:off x="7275600" y="0"/>
            <a:ext cx="48960" cy="75596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10"/>
          <p:cNvSpPr/>
          <p:nvPr/>
        </p:nvSpPr>
        <p:spPr>
          <a:xfrm>
            <a:off x="7327800" y="0"/>
            <a:ext cx="2773440" cy="755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503280" y="1957320"/>
            <a:ext cx="907416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marL="482760" indent="-3524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1" marL="804960" indent="-3016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2" marL="1098720" indent="-25092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3" marL="1339920" indent="-20016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4" marL="1571760" indent="-20016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5" marL="1571760" indent="-20016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6" marL="1571760" indent="-20016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502920" y="7139160"/>
            <a:ext cx="2352600" cy="303120"/>
          </a:xfrm>
          <a:prstGeom prst="rect">
            <a:avLst/>
          </a:prstGeom>
          <a:noFill/>
          <a:ln w="0">
            <a:noFill/>
          </a:ln>
        </p:spPr>
        <p:txBody>
          <a:bodyPr lIns="120960" rIns="50400" tIns="5040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911320" y="7029360"/>
            <a:ext cx="4229280" cy="403200"/>
          </a:xfrm>
          <a:prstGeom prst="rect">
            <a:avLst/>
          </a:prstGeom>
          <a:noFill/>
          <a:ln w="0">
            <a:noFill/>
          </a:ln>
        </p:spPr>
        <p:txBody>
          <a:bodyPr lIns="50400" rIns="50400" tIns="5040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9043560" y="7139160"/>
            <a:ext cx="809640" cy="30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3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251F31-C3FB-4EBB-A15D-FA3701E1357C}" type="slidenum">
              <a:rPr b="0" lang="en-GB" sz="13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9"/>
          <p:cNvSpPr/>
          <p:nvPr/>
        </p:nvSpPr>
        <p:spPr>
          <a:xfrm>
            <a:off x="0" y="1582560"/>
            <a:ext cx="10080720" cy="511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0800" rIns="100800" tIns="720" bIns="72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6"/>
          <p:cNvSpPr/>
          <p:nvPr/>
        </p:nvSpPr>
        <p:spPr>
          <a:xfrm>
            <a:off x="0" y="0"/>
            <a:ext cx="10080720" cy="1581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3280" y="1957320"/>
            <a:ext cx="907416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marL="482760" indent="-3524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1" marL="804960" indent="-3016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2" marL="1098720" indent="-25092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3" marL="1339920" indent="-20016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4" marL="1571760" indent="-20016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5" marL="1571760" indent="-20016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6" marL="1571760" indent="-20016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502920" y="6886080"/>
            <a:ext cx="2346120" cy="520920"/>
          </a:xfrm>
          <a:prstGeom prst="rect">
            <a:avLst/>
          </a:prstGeom>
          <a:noFill/>
          <a:ln w="0">
            <a:noFill/>
          </a:ln>
        </p:spPr>
        <p:txBody>
          <a:bodyPr lIns="120960" rIns="50400" tIns="5040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448080" y="6886080"/>
            <a:ext cx="3193920" cy="520920"/>
          </a:xfrm>
          <a:prstGeom prst="rect">
            <a:avLst/>
          </a:prstGeom>
          <a:noFill/>
          <a:ln w="0">
            <a:noFill/>
          </a:ln>
        </p:spPr>
        <p:txBody>
          <a:bodyPr lIns="50400" rIns="50400" tIns="5040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7226280" y="6886080"/>
            <a:ext cx="2346480" cy="520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3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50B634-17A4-4C2B-AC1F-00333FBFF694}" type="slidenum">
              <a:rPr b="0" lang="en-GB" sz="13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9"/>
          <p:cNvSpPr/>
          <p:nvPr/>
        </p:nvSpPr>
        <p:spPr>
          <a:xfrm>
            <a:off x="0" y="1582560"/>
            <a:ext cx="10080720" cy="511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0800" rIns="100800" tIns="720" bIns="72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6"/>
          <p:cNvSpPr/>
          <p:nvPr/>
        </p:nvSpPr>
        <p:spPr>
          <a:xfrm>
            <a:off x="0" y="0"/>
            <a:ext cx="10080720" cy="1581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503280" y="1957320"/>
            <a:ext cx="907416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marL="482760" indent="-3524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1" marL="804960" indent="-3016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2" marL="1098720" indent="-25092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3" marL="1339920" indent="-20016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4" marL="1571760" indent="-20016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5" marL="1571760" indent="-20016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6" marL="1571760" indent="-20016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dt" idx="25"/>
          </p:nvPr>
        </p:nvSpPr>
        <p:spPr>
          <a:xfrm>
            <a:off x="502920" y="6886080"/>
            <a:ext cx="2346120" cy="520920"/>
          </a:xfrm>
          <a:prstGeom prst="rect">
            <a:avLst/>
          </a:prstGeom>
          <a:noFill/>
          <a:ln w="0">
            <a:noFill/>
          </a:ln>
        </p:spPr>
        <p:txBody>
          <a:bodyPr lIns="120960" rIns="50400" tIns="5040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ftr" idx="26"/>
          </p:nvPr>
        </p:nvSpPr>
        <p:spPr>
          <a:xfrm>
            <a:off x="3448080" y="6886080"/>
            <a:ext cx="3193920" cy="520920"/>
          </a:xfrm>
          <a:prstGeom prst="rect">
            <a:avLst/>
          </a:prstGeom>
          <a:noFill/>
          <a:ln w="0">
            <a:noFill/>
          </a:ln>
        </p:spPr>
        <p:txBody>
          <a:bodyPr lIns="50400" rIns="50400" tIns="5040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27"/>
          </p:nvPr>
        </p:nvSpPr>
        <p:spPr>
          <a:xfrm>
            <a:off x="7226280" y="6886080"/>
            <a:ext cx="2346480" cy="520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3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CD50B0-CDAF-4B01-9ED9-A17CFD45196D}" type="slidenum">
              <a:rPr b="0" lang="en-GB" sz="13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ct"/><Relationship Id="rId2" Type="http://schemas.openxmlformats.org/officeDocument/2006/relationships/image" Target="../media/image13.pct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0" y="1528560"/>
            <a:ext cx="9072720" cy="58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2160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2160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2160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rbel"/>
              </a:rPr>
              <a:t>Support for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2160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rbel"/>
              </a:rPr>
              <a:t>Global Cloud Resolving Model Simulation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2160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2160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2160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2160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2160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rbel"/>
              </a:rPr>
              <a:t>VACET All-Hands Meeting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2160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rbel"/>
              </a:rPr>
              <a:t>IEEE Vis 2008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151600" y="176832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17" name="Picture 3" descr=""/>
          <p:cNvPicPr/>
          <p:nvPr/>
        </p:nvPicPr>
        <p:blipFill>
          <a:blip r:embed="rId1"/>
          <a:stretch/>
        </p:blipFill>
        <p:spPr>
          <a:xfrm>
            <a:off x="1517760" y="0"/>
            <a:ext cx="7399080" cy="755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Rectangle 1" descr=""/>
          <p:cNvPicPr/>
          <p:nvPr/>
        </p:nvPicPr>
        <p:blipFill>
          <a:blip r:embed="rId1"/>
          <a:stretch/>
        </p:blipFill>
        <p:spPr>
          <a:xfrm>
            <a:off x="500040" y="291960"/>
            <a:ext cx="9082080" cy="1281240"/>
          </a:xfrm>
          <a:prstGeom prst="rect">
            <a:avLst/>
          </a:prstGeom>
          <a:ln w="0">
            <a:noFill/>
          </a:ln>
        </p:spPr>
      </p:pic>
      <p:sp>
        <p:nvSpPr>
          <p:cNvPr id="419" name=""/>
          <p:cNvSpPr txBox="1"/>
          <p:nvPr/>
        </p:nvSpPr>
        <p:spPr>
          <a:xfrm>
            <a:off x="502920" y="1768320"/>
            <a:ext cx="9072360" cy="498960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marL="482760" indent="-3524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rbel"/>
              </a:rPr>
              <a:t>Further work w/ Cray on optimizing mpi-io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marL="482760" indent="-3524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rbel"/>
              </a:rPr>
              <a:t>Finalize data model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1" marL="804960" indent="-301680">
              <a:spcBef>
                <a:spcPts val="774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Corbel"/>
              </a:rPr>
              <a:t>cell/corner/edge/face centered data</a:t>
            </a:r>
            <a:endParaRPr b="0" lang="en-US" sz="3100" spc="-1" strike="noStrike">
              <a:solidFill>
                <a:srgbClr val="000000"/>
              </a:solidFill>
              <a:latin typeface="Corbel"/>
            </a:endParaRPr>
          </a:p>
          <a:p>
            <a:pPr lvl="1" marL="804960" indent="-301680">
              <a:spcBef>
                <a:spcPts val="774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Corbel"/>
              </a:rPr>
              <a:t>validate NetCDF-4 </a:t>
            </a:r>
            <a:endParaRPr b="0" lang="en-US" sz="3100" spc="-1" strike="noStrike">
              <a:solidFill>
                <a:srgbClr val="000000"/>
              </a:solidFill>
              <a:latin typeface="Corbel"/>
            </a:endParaRPr>
          </a:p>
          <a:p>
            <a:pPr marL="482760" indent="-3524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rbel"/>
              </a:rPr>
              <a:t>VisIt plugin enhancements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1" marL="804960" indent="-301680">
              <a:spcBef>
                <a:spcPts val="774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Corbel"/>
              </a:rPr>
              <a:t>parallelization</a:t>
            </a:r>
            <a:endParaRPr b="0" lang="en-US" sz="3100" spc="-1" strike="noStrike">
              <a:solidFill>
                <a:srgbClr val="000000"/>
              </a:solidFill>
              <a:latin typeface="Corbel"/>
            </a:endParaRPr>
          </a:p>
          <a:p>
            <a:pPr lvl="1" marL="804960" indent="-301680">
              <a:spcBef>
                <a:spcPts val="774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Corbel"/>
              </a:rPr>
              <a:t>incorporate morton-ordering</a:t>
            </a:r>
            <a:endParaRPr b="0" lang="en-US" sz="31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Rectangle 1" descr=""/>
          <p:cNvPicPr/>
          <p:nvPr/>
        </p:nvPicPr>
        <p:blipFill>
          <a:blip r:embed="rId1"/>
          <a:stretch/>
        </p:blipFill>
        <p:spPr>
          <a:xfrm>
            <a:off x="533520" y="304920"/>
            <a:ext cx="9082080" cy="1280880"/>
          </a:xfrm>
          <a:prstGeom prst="rect">
            <a:avLst/>
          </a:prstGeom>
          <a:ln w="0">
            <a:noFill/>
          </a:ln>
        </p:spPr>
      </p:pic>
      <p:sp>
        <p:nvSpPr>
          <p:cNvPr id="421" name=""/>
          <p:cNvSpPr txBox="1"/>
          <p:nvPr/>
        </p:nvSpPr>
        <p:spPr>
          <a:xfrm>
            <a:off x="502920" y="1768320"/>
            <a:ext cx="9072360" cy="56109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marL="482760" indent="-3524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rbel"/>
              </a:rPr>
              <a:t>Colorado State Univ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1" marL="804960" indent="-301680">
              <a:spcBef>
                <a:spcPts val="774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Corbel"/>
              </a:rPr>
              <a:t>Dave Randall, Ross Heikes</a:t>
            </a:r>
            <a:endParaRPr b="0" lang="en-US" sz="3100" spc="-1" strike="noStrike">
              <a:solidFill>
                <a:srgbClr val="000000"/>
              </a:solidFill>
              <a:latin typeface="Corbel"/>
            </a:endParaRPr>
          </a:p>
          <a:p>
            <a:pPr marL="482760" indent="-3524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rbel"/>
              </a:rPr>
              <a:t>PNNL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1" marL="804960" indent="-301680">
              <a:spcBef>
                <a:spcPts val="774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Corbel"/>
              </a:rPr>
              <a:t>Karen Schuchardt, Bruce Palmer, Annette Koonz</a:t>
            </a:r>
            <a:endParaRPr b="0" lang="en-US" sz="3100" spc="-1" strike="noStrike">
              <a:solidFill>
                <a:srgbClr val="000000"/>
              </a:solidFill>
              <a:latin typeface="Corbel"/>
            </a:endParaRPr>
          </a:p>
          <a:p>
            <a:pPr marL="482760" indent="-3524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rbel"/>
              </a:rPr>
              <a:t>LBNL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1" marL="804960" indent="-301680">
              <a:spcBef>
                <a:spcPts val="774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Corbel"/>
              </a:rPr>
              <a:t>Janet Jacobsen, Wes Bethel</a:t>
            </a:r>
            <a:endParaRPr b="0" lang="en-US" sz="3100" spc="-1" strike="noStrike">
              <a:solidFill>
                <a:srgbClr val="000000"/>
              </a:solidFill>
              <a:latin typeface="Corbel"/>
            </a:endParaRPr>
          </a:p>
          <a:p>
            <a:pPr lvl="1" marL="804960" indent="-301680">
              <a:spcBef>
                <a:spcPts val="774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Corbel"/>
              </a:rPr>
              <a:t>Mark Howison</a:t>
            </a:r>
            <a:endParaRPr b="0" lang="en-US" sz="3100" spc="-1" strike="noStrike">
              <a:solidFill>
                <a:srgbClr val="000000"/>
              </a:solidFill>
              <a:latin typeface="Corbel"/>
            </a:endParaRPr>
          </a:p>
          <a:p>
            <a:pPr lvl="1" marL="804960" indent="-301680">
              <a:spcBef>
                <a:spcPts val="774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Corbel"/>
              </a:rPr>
              <a:t>Katie Antypas, John Shalf, Shane Canon</a:t>
            </a:r>
            <a:endParaRPr b="0" lang="en-US" sz="3100" spc="-1" strike="noStrike">
              <a:solidFill>
                <a:srgbClr val="000000"/>
              </a:solidFill>
              <a:latin typeface="Corbel"/>
            </a:endParaRPr>
          </a:p>
          <a:p>
            <a:pPr marL="482760" indent="-3524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rbel"/>
              </a:rPr>
              <a:t>VisIt team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/>
          <p:nvPr/>
        </p:nvSpPr>
        <p:spPr>
          <a:xfrm>
            <a:off x="1968120" y="498600"/>
            <a:ext cx="599472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VisIt Update (Hank’s part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Rectangle 2"/>
          <p:cNvSpPr/>
          <p:nvPr/>
        </p:nvSpPr>
        <p:spPr>
          <a:xfrm>
            <a:off x="503280" y="1768320"/>
            <a:ext cx="9072360" cy="621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0480" rIns="100800" tIns="100800" bIns="50400" anchor="t">
            <a:spAutoFit/>
          </a:bodyPr>
          <a:p>
            <a:pPr marL="482760" indent="-35244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rbel"/>
              </a:rPr>
              <a:t>Project is doing very wel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301680">
              <a:lnSpc>
                <a:spcPct val="100000"/>
              </a:lnSpc>
              <a:spcBef>
                <a:spcPts val="774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Corbel"/>
              </a:rPr>
              <a:t>There is an upcoming slide on partnering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482760" indent="-35244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rbel"/>
              </a:rPr>
              <a:t>Much more like an open source project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301680">
              <a:lnSpc>
                <a:spcPct val="100000"/>
              </a:lnSpc>
              <a:spcBef>
                <a:spcPts val="774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Corbel"/>
              </a:rPr>
              <a:t>SVN repo at LBL through SciDAC Outreach Center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301680">
              <a:lnSpc>
                <a:spcPct val="100000"/>
              </a:lnSpc>
              <a:spcBef>
                <a:spcPts val="774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Corbel"/>
              </a:rPr>
              <a:t>Mailing lists at ORN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301680">
              <a:lnSpc>
                <a:spcPct val="100000"/>
              </a:lnSpc>
              <a:spcBef>
                <a:spcPts val="774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Corbel"/>
              </a:rPr>
              <a:t>      </a:t>
            </a:r>
            <a:r>
              <a:rPr b="0" lang="en-GB" sz="3100" spc="-1" strike="noStrike">
                <a:solidFill>
                  <a:srgbClr val="000000"/>
                </a:solidFill>
                <a:latin typeface="Corbel"/>
              </a:rPr>
              <a:t>~200 people on users list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301680">
              <a:lnSpc>
                <a:spcPct val="100000"/>
              </a:lnSpc>
              <a:spcBef>
                <a:spcPts val="774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Corbel"/>
              </a:rPr>
              <a:t>Visitusers.org Wiki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301680">
              <a:lnSpc>
                <a:spcPct val="100000"/>
              </a:lnSpc>
              <a:spcBef>
                <a:spcPts val="774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Corbel"/>
              </a:rPr>
              <a:t>      </a:t>
            </a:r>
            <a:r>
              <a:rPr b="0" lang="en-GB" sz="3100" spc="-1" strike="noStrike">
                <a:solidFill>
                  <a:srgbClr val="000000"/>
                </a:solidFill>
                <a:latin typeface="Corbel"/>
              </a:rPr>
              <a:t>Wiki for developers and user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301680">
              <a:lnSpc>
                <a:spcPct val="100000"/>
              </a:lnSpc>
              <a:spcBef>
                <a:spcPts val="774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Corbel"/>
              </a:rPr>
              <a:t>Tutorials (at SciDAC conf, Snowbird, PPPL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482760" indent="-35244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/>
          <p:nvPr/>
        </p:nvSpPr>
        <p:spPr>
          <a:xfrm>
            <a:off x="460800" y="380880"/>
            <a:ext cx="941148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Likely upcoming features in the next ye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Rectangle 2"/>
          <p:cNvSpPr/>
          <p:nvPr/>
        </p:nvSpPr>
        <p:spPr>
          <a:xfrm>
            <a:off x="380880" y="1569960"/>
            <a:ext cx="9072720" cy="558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0480" rIns="100800" tIns="100800" bIns="50400" anchor="t">
            <a:spAutoFit/>
          </a:bodyPr>
          <a:p>
            <a:pPr marL="482760" indent="-35244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rbel"/>
              </a:rPr>
              <a:t>SciDAC stuff: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301680">
              <a:lnSpc>
                <a:spcPct val="100000"/>
              </a:lnSpc>
              <a:spcBef>
                <a:spcPts val="774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Corbel"/>
              </a:rPr>
              <a:t>Poincare plot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301680">
              <a:lnSpc>
                <a:spcPct val="100000"/>
              </a:lnSpc>
              <a:spcBef>
                <a:spcPts val="774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Corbel"/>
              </a:rPr>
              <a:t>Integration of FastBi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301680">
              <a:lnSpc>
                <a:spcPct val="100000"/>
              </a:lnSpc>
              <a:spcBef>
                <a:spcPts val="774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Corbel"/>
              </a:rPr>
              <a:t>VisTrails (?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482760" indent="-35244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rbel"/>
              </a:rPr>
              <a:t>Non-SciDAC stuff: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301680">
              <a:lnSpc>
                <a:spcPct val="100000"/>
              </a:lnSpc>
              <a:spcBef>
                <a:spcPts val="774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Corbel"/>
              </a:rPr>
              <a:t>Qt4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301680">
              <a:lnSpc>
                <a:spcPct val="100000"/>
              </a:lnSpc>
              <a:spcBef>
                <a:spcPts val="774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Corbel"/>
              </a:rPr>
              <a:t>Parallel Python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301680">
              <a:lnSpc>
                <a:spcPct val="100000"/>
              </a:lnSpc>
              <a:spcBef>
                <a:spcPts val="774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Corbel"/>
              </a:rPr>
              <a:t>Hopefully more for in-situ, multi-res, and time-varying data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482760" indent="-35244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Corbel"/>
              </a:rPr>
              <a:t>+ a lot more…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04720" y="167760"/>
            <a:ext cx="9072720" cy="13813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c800"/>
                </a:solidFill>
                <a:latin typeface="Corbel"/>
              </a:rPr>
              <a:t>VisIt has a rapidly growing developer community.</a:t>
            </a: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pic>
        <p:nvPicPr>
          <p:cNvPr id="427" name="" descr=""/>
          <p:cNvPicPr/>
          <p:nvPr/>
        </p:nvPicPr>
        <p:blipFill>
          <a:blip r:embed="rId1"/>
          <a:srcRect l="680392" t="1246919" r="1751337" b="766947"/>
          <a:stretch/>
        </p:blipFill>
        <p:spPr>
          <a:xfrm>
            <a:off x="8121600" y="4116240"/>
            <a:ext cx="1959120" cy="34434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d4d4d6"/>
            </a:outerShdw>
          </a:effectLst>
        </p:spPr>
      </p:pic>
      <p:pic>
        <p:nvPicPr>
          <p:cNvPr id="428" name="" descr=""/>
          <p:cNvPicPr/>
          <p:nvPr/>
        </p:nvPicPr>
        <p:blipFill>
          <a:blip r:embed="rId2"/>
          <a:stretch/>
        </p:blipFill>
        <p:spPr>
          <a:xfrm>
            <a:off x="1371600" y="1828800"/>
            <a:ext cx="6888240" cy="4681440"/>
          </a:xfrm>
          <a:prstGeom prst="rect">
            <a:avLst/>
          </a:prstGeom>
          <a:ln w="0">
            <a:noFill/>
          </a:ln>
        </p:spPr>
      </p:pic>
      <p:sp>
        <p:nvSpPr>
          <p:cNvPr id="429" name=""/>
          <p:cNvSpPr/>
          <p:nvPr/>
        </p:nvSpPr>
        <p:spPr>
          <a:xfrm>
            <a:off x="0" y="3948120"/>
            <a:ext cx="2016000" cy="2184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ASC / LLN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ric Brugger (P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athleen B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nk Chil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yrus Har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rk Mi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d Whit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0" y="2687760"/>
            <a:ext cx="1847880" cy="1008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SciDAC/LB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unther We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abh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0" y="6132600"/>
            <a:ext cx="2016000" cy="10065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SciDAC/LLN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nk Chil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d Whitlo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964120" y="4619520"/>
            <a:ext cx="2016360" cy="1260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SciDAC/ORN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an Aher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eremy Meredi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vid Pugm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1981080" y="3505320"/>
            <a:ext cx="2387880" cy="12189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SciDAC/UCDav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ristoph Gar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iver Rueb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duard Die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048120" y="2819520"/>
            <a:ext cx="2184120" cy="7556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SciDAC/UUta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osh Stratt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016000" y="6132600"/>
            <a:ext cx="2016360" cy="10065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GNEP/LLN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vid Bre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nk Chil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8064360" y="4200480"/>
            <a:ext cx="2016360" cy="924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AW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tt Whee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ul Sel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8064360" y="5880240"/>
            <a:ext cx="2016360" cy="9237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C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abien Vivodtze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5964120" y="5880240"/>
            <a:ext cx="2016360" cy="142704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ORNL Instituti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an Aher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amison Dani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eremy Meredi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vid Pugm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0" y="1679400"/>
            <a:ext cx="1847880" cy="1008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LBL Instituti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unther We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abh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1932120" y="2100240"/>
            <a:ext cx="1847880" cy="671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INL Instituti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im Galbrai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5376960" y="3611520"/>
            <a:ext cx="1847880" cy="671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ANL Instituti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y Hud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3863880" y="6551640"/>
            <a:ext cx="2016360" cy="1008000"/>
          </a:xfrm>
          <a:prstGeom prst="rect">
            <a:avLst/>
          </a:prstGeom>
          <a:solidFill>
            <a:srgbClr val="ffffc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LDRD/LLN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niel Lan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nk Chil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016000" y="5375160"/>
            <a:ext cx="2016360" cy="757440"/>
          </a:xfrm>
          <a:prstGeom prst="rect">
            <a:avLst/>
          </a:prstGeom>
          <a:solidFill>
            <a:srgbClr val="ffffc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Oil $ to LLN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ric Brug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057400" y="4662360"/>
            <a:ext cx="2268360" cy="6717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UCDavis: Resear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ohn Ander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7728120" y="2940120"/>
            <a:ext cx="2016000" cy="587160"/>
          </a:xfrm>
          <a:prstGeom prst="rect">
            <a:avLst/>
          </a:prstGeom>
          <a:solidFill>
            <a:srgbClr val="ffffc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UNH: Resear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m Fog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392960" y="3527280"/>
            <a:ext cx="1679760" cy="588960"/>
          </a:xfrm>
          <a:prstGeom prst="rect">
            <a:avLst/>
          </a:prstGeom>
          <a:solidFill>
            <a:srgbClr val="ffffc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ITT (Industr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tt Fa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6635880" y="1511280"/>
            <a:ext cx="3024000" cy="1344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SzPct val="45000"/>
              <a:buFont typeface="Times"/>
              <a:buChar char="•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 more partnerships coming soon (NSF?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45000"/>
              <a:buFont typeface="Times"/>
              <a:buChar char="•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 contributions from people not in the reposi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0" y="1538640"/>
            <a:ext cx="9072720" cy="578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2160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2160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2160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rbel"/>
              </a:rPr>
              <a:t>Support for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2160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rbel"/>
              </a:rPr>
              <a:t>Global Cloud Resolving Model Simulation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2160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2160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2160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2160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2160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rbel"/>
              </a:rPr>
              <a:t>VACET All-Hands Meeting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2160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rbel"/>
              </a:rPr>
              <a:t>IEEE Vis 2008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0" name=""/>
          <p:cNvSpPr/>
          <p:nvPr/>
        </p:nvSpPr>
        <p:spPr>
          <a:xfrm>
            <a:off x="2971800" y="4495680"/>
            <a:ext cx="4092480" cy="8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33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Arial"/>
              </a:rPr>
              <a:t>PRABH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Rectangle 1" descr=""/>
          <p:cNvPicPr/>
          <p:nvPr/>
        </p:nvPicPr>
        <p:blipFill>
          <a:blip r:embed="rId1"/>
          <a:stretch/>
        </p:blipFill>
        <p:spPr>
          <a:xfrm>
            <a:off x="500040" y="291960"/>
            <a:ext cx="9082080" cy="128124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 txBox="1"/>
          <p:nvPr/>
        </p:nvSpPr>
        <p:spPr>
          <a:xfrm>
            <a:off x="502920" y="1767960"/>
            <a:ext cx="9072360" cy="50468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marL="482760" indent="-3524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rbel"/>
              </a:rPr>
              <a:t>SciDAC/INCITE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1" marL="804960" indent="-301680">
              <a:spcBef>
                <a:spcPts val="774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Corbel"/>
              </a:rPr>
              <a:t>PI: Dave Randall (CSU) </a:t>
            </a:r>
            <a:endParaRPr b="0" lang="en-US" sz="3100" spc="-1" strike="noStrike">
              <a:solidFill>
                <a:srgbClr val="000000"/>
              </a:solidFill>
              <a:latin typeface="Corbel"/>
            </a:endParaRPr>
          </a:p>
          <a:p>
            <a:pPr lvl="1" marL="804960" indent="-301680">
              <a:spcBef>
                <a:spcPts val="774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Corbel"/>
              </a:rPr>
              <a:t>2008 INCITE award at NERSC</a:t>
            </a:r>
            <a:endParaRPr b="0" lang="en-US" sz="3100" spc="-1" strike="noStrike">
              <a:solidFill>
                <a:srgbClr val="000000"/>
              </a:solidFill>
              <a:latin typeface="Corbel"/>
            </a:endParaRPr>
          </a:p>
          <a:p>
            <a:pPr marL="482760" indent="-3524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rbel"/>
              </a:rPr>
              <a:t>Multi-institution collaboration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1" marL="804960" indent="-301680">
              <a:spcBef>
                <a:spcPts val="774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Corbel"/>
              </a:rPr>
              <a:t>CSU researchers developing the climate simulation</a:t>
            </a:r>
            <a:endParaRPr b="0" lang="en-US" sz="3100" spc="-1" strike="noStrike">
              <a:solidFill>
                <a:srgbClr val="000000"/>
              </a:solidFill>
              <a:latin typeface="Corbel"/>
            </a:endParaRPr>
          </a:p>
          <a:p>
            <a:pPr lvl="1" marL="804960" indent="-301680">
              <a:spcBef>
                <a:spcPts val="774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Corbel"/>
              </a:rPr>
              <a:t>PNNL researchers developing the Data API</a:t>
            </a:r>
            <a:endParaRPr b="0" lang="en-US" sz="3100" spc="-1" strike="noStrike">
              <a:solidFill>
                <a:srgbClr val="000000"/>
              </a:solidFill>
              <a:latin typeface="Corbel"/>
            </a:endParaRPr>
          </a:p>
          <a:p>
            <a:pPr lvl="1" marL="804960" indent="-301680">
              <a:spcBef>
                <a:spcPts val="774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Corbel"/>
              </a:rPr>
              <a:t>VACET researchers helping w/ Data model, Parallel IO and Vis</a:t>
            </a:r>
            <a:endParaRPr b="0" lang="en-US" sz="31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Rectangle 1" descr=""/>
          <p:cNvPicPr/>
          <p:nvPr/>
        </p:nvPicPr>
        <p:blipFill>
          <a:blip r:embed="rId1"/>
          <a:stretch/>
        </p:blipFill>
        <p:spPr>
          <a:xfrm>
            <a:off x="500040" y="291960"/>
            <a:ext cx="9082080" cy="128124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 txBox="1"/>
          <p:nvPr/>
        </p:nvSpPr>
        <p:spPr>
          <a:xfrm>
            <a:off x="502920" y="1767960"/>
            <a:ext cx="9402840" cy="54615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 fontScale="99000"/>
          </a:bodyPr>
          <a:p>
            <a:pPr marL="477720" indent="-3488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rbel"/>
              </a:rPr>
              <a:t>Global atmospheric circulation mod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96680" indent="-298440"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rbel"/>
              </a:rPr>
              <a:t>non-hydrostatic dynamical core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96680" indent="-298440"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rbel"/>
              </a:rPr>
              <a:t>cloud microphysics, turbulence, radiation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96680" indent="-298440"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rbel"/>
              </a:rPr>
              <a:t>coupled to land-surface mod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77720" indent="-3488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rbel"/>
              </a:rPr>
              <a:t>3km grid-cell spacing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77720" indent="-3488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rbel"/>
              </a:rPr>
              <a:t>Planned runs on 20K+ franklin core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77720" indent="-3488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rbel"/>
              </a:rPr>
              <a:t>Planned 1:1 simulated:wall_clock tim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77720" indent="-3488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rbel"/>
              </a:rPr>
              <a:t>Data throughput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96680" indent="-29844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rbel"/>
              </a:rPr>
              <a:t>~1TB/hr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96680" indent="-29844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rbel"/>
              </a:rPr>
              <a:t>2GB/s aggregate IO performance requirement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96680" indent="-29844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rbel"/>
              </a:rPr>
              <a:t>~500M cells*100 layers, 50 variable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Rectangle 1" descr=""/>
          <p:cNvPicPr/>
          <p:nvPr/>
        </p:nvPicPr>
        <p:blipFill>
          <a:blip r:embed="rId1"/>
          <a:stretch/>
        </p:blipFill>
        <p:spPr>
          <a:xfrm>
            <a:off x="463680" y="652320"/>
            <a:ext cx="9082080" cy="78588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 txBox="1"/>
          <p:nvPr/>
        </p:nvSpPr>
        <p:spPr>
          <a:xfrm>
            <a:off x="502920" y="1767960"/>
            <a:ext cx="9072360" cy="2819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 fontScale="99000"/>
          </a:bodyPr>
          <a:p>
            <a:pPr marL="477720" indent="-3488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rbel"/>
              </a:rPr>
              <a:t>Identify a data model for GCRM code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marL="477720" indent="-3488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rbel"/>
              </a:rPr>
              <a:t>Enable simulation code to do efficient parallel IO 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marL="477720" indent="-3488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rbel"/>
              </a:rPr>
              <a:t>Visualization and Analysis on extremely large icosahedral meshes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Rectangle 1" descr=""/>
          <p:cNvPicPr/>
          <p:nvPr/>
        </p:nvPicPr>
        <p:blipFill>
          <a:blip r:embed="rId1"/>
          <a:stretch/>
        </p:blipFill>
        <p:spPr>
          <a:xfrm>
            <a:off x="500040" y="291960"/>
            <a:ext cx="9082080" cy="128124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 txBox="1"/>
          <p:nvPr/>
        </p:nvSpPr>
        <p:spPr>
          <a:xfrm>
            <a:off x="502920" y="1767960"/>
            <a:ext cx="9072360" cy="34275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marL="482760" indent="-3524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rbel"/>
              </a:rPr>
              <a:t>1</a:t>
            </a:r>
            <a:r>
              <a:rPr b="0" lang="en-GB" sz="3500" spc="-1" strike="noStrike" baseline="33000">
                <a:solidFill>
                  <a:srgbClr val="000000"/>
                </a:solidFill>
                <a:latin typeface="Corbel"/>
              </a:rPr>
              <a:t>st</a:t>
            </a:r>
            <a:r>
              <a:rPr b="0" lang="en-GB" sz="3500" spc="-1" strike="noStrike">
                <a:solidFill>
                  <a:srgbClr val="000000"/>
                </a:solidFill>
                <a:latin typeface="Corbel"/>
              </a:rPr>
              <a:t> Phase: NetCDF-3 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1" marL="804960" indent="-301680">
              <a:spcBef>
                <a:spcPts val="774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Corbel"/>
              </a:rPr>
              <a:t>metadata conventions</a:t>
            </a:r>
            <a:endParaRPr b="0" lang="en-US" sz="3100" spc="-1" strike="noStrike">
              <a:solidFill>
                <a:srgbClr val="000000"/>
              </a:solidFill>
              <a:latin typeface="Corbel"/>
            </a:endParaRPr>
          </a:p>
          <a:p>
            <a:pPr lvl="1" marL="804960" indent="-301680">
              <a:spcBef>
                <a:spcPts val="774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orbel"/>
              </a:rPr>
              <a:t>Icosahedral m</a:t>
            </a:r>
            <a:r>
              <a:rPr b="0" lang="en-GB" sz="3100" spc="-1" strike="noStrike">
                <a:solidFill>
                  <a:srgbClr val="000000"/>
                </a:solidFill>
                <a:latin typeface="Corbel"/>
              </a:rPr>
              <a:t>esh variables/layout</a:t>
            </a:r>
            <a:endParaRPr b="0" lang="en-US" sz="3100" spc="-1" strike="noStrike">
              <a:solidFill>
                <a:srgbClr val="000000"/>
              </a:solidFill>
              <a:latin typeface="Corbel"/>
            </a:endParaRPr>
          </a:p>
          <a:p>
            <a:pPr lvl="2" marL="1098720" indent="-250920">
              <a:spcBef>
                <a:spcPts val="649"/>
              </a:spcBef>
              <a:buClr>
                <a:srgbClr val="e66c7d"/>
              </a:buClr>
              <a:buFont typeface="Arial"/>
              <a:buChar char="▪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c</a:t>
            </a:r>
            <a:r>
              <a:rPr b="0" lang="en-GB" sz="2600" spc="-1" strike="noStrike">
                <a:solidFill>
                  <a:srgbClr val="000000"/>
                </a:solidFill>
                <a:latin typeface="Corbel"/>
              </a:rPr>
              <a:t>ell/corner/edge/face centered 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2" marL="1098720" indent="-250920">
              <a:spcBef>
                <a:spcPts val="649"/>
              </a:spcBef>
              <a:buClr>
                <a:srgbClr val="e66c7d"/>
              </a:buClr>
              <a:buFont typeface="Arial"/>
              <a:buChar char="▪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rbel"/>
              </a:rPr>
              <a:t>satisfy VisIt plugin requirements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482760" indent="-3524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rbel"/>
              </a:rPr>
              <a:t>2</a:t>
            </a:r>
            <a:r>
              <a:rPr b="0" lang="en-GB" sz="3500" spc="-1" strike="noStrike" baseline="33000">
                <a:solidFill>
                  <a:srgbClr val="000000"/>
                </a:solidFill>
                <a:latin typeface="Corbel"/>
              </a:rPr>
              <a:t>nd</a:t>
            </a:r>
            <a:r>
              <a:rPr b="0" lang="en-GB" sz="3500" spc="-1" strike="noStrike">
                <a:solidFill>
                  <a:srgbClr val="000000"/>
                </a:solidFill>
                <a:latin typeface="Corbel"/>
              </a:rPr>
              <a:t> Phase NetCDF-4 (HDF5)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Rectangle 1" descr=""/>
          <p:cNvPicPr/>
          <p:nvPr/>
        </p:nvPicPr>
        <p:blipFill>
          <a:blip r:embed="rId1"/>
          <a:stretch/>
        </p:blipFill>
        <p:spPr>
          <a:xfrm>
            <a:off x="500040" y="291960"/>
            <a:ext cx="9082080" cy="128124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 txBox="1"/>
          <p:nvPr/>
        </p:nvSpPr>
        <p:spPr>
          <a:xfrm>
            <a:off x="502920" y="1768320"/>
            <a:ext cx="9072360" cy="563508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marL="482760" indent="-3524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rbel"/>
              </a:rPr>
              <a:t>Need sustained 2+GB/s collective IO to single shared file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marL="482760" indent="-3524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rbel"/>
              </a:rPr>
              <a:t>Current franklin performance ~0.3-1.2 GB/s (for single file)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marL="482760" indent="-3524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rbel"/>
              </a:rPr>
              <a:t>Large number of IOR tests examining factors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1" marL="804960" indent="-301680">
              <a:spcBef>
                <a:spcPts val="774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Corbel"/>
              </a:rPr>
              <a:t>IO patterns</a:t>
            </a:r>
            <a:endParaRPr b="0" lang="en-US" sz="3100" spc="-1" strike="noStrike">
              <a:solidFill>
                <a:srgbClr val="000000"/>
              </a:solidFill>
              <a:latin typeface="Corbel"/>
            </a:endParaRPr>
          </a:p>
          <a:p>
            <a:pPr lvl="1" marL="804960" indent="-301680">
              <a:spcBef>
                <a:spcPts val="774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Corbel"/>
              </a:rPr>
              <a:t>lustre striping</a:t>
            </a:r>
            <a:endParaRPr b="0" lang="en-US" sz="3100" spc="-1" strike="noStrike">
              <a:solidFill>
                <a:srgbClr val="000000"/>
              </a:solidFill>
              <a:latin typeface="Corbel"/>
            </a:endParaRPr>
          </a:p>
          <a:p>
            <a:pPr lvl="1" marL="804960" indent="-301680">
              <a:spcBef>
                <a:spcPts val="774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Corbel"/>
              </a:rPr>
              <a:t>blocking/transfer sizes</a:t>
            </a:r>
            <a:endParaRPr b="0" lang="en-US" sz="3100" spc="-1" strike="noStrike">
              <a:solidFill>
                <a:srgbClr val="000000"/>
              </a:solidFill>
              <a:latin typeface="Corbel"/>
            </a:endParaRPr>
          </a:p>
          <a:p>
            <a:pPr lvl="1" marL="804960" indent="-301680">
              <a:spcBef>
                <a:spcPts val="774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Corbel"/>
              </a:rPr>
              <a:t>#IO nodes, #OSTs</a:t>
            </a:r>
            <a:endParaRPr b="0" lang="en-US" sz="31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Rectangle 1" descr=""/>
          <p:cNvPicPr/>
          <p:nvPr/>
        </p:nvPicPr>
        <p:blipFill>
          <a:blip r:embed="rId1"/>
          <a:stretch/>
        </p:blipFill>
        <p:spPr>
          <a:xfrm>
            <a:off x="500040" y="291960"/>
            <a:ext cx="9082080" cy="1281240"/>
          </a:xfrm>
          <a:prstGeom prst="rect">
            <a:avLst/>
          </a:prstGeom>
          <a:ln w="0">
            <a:noFill/>
          </a:ln>
        </p:spPr>
      </p:pic>
      <p:sp>
        <p:nvSpPr>
          <p:cNvPr id="412" name=""/>
          <p:cNvSpPr txBox="1"/>
          <p:nvPr/>
        </p:nvSpPr>
        <p:spPr>
          <a:xfrm>
            <a:off x="502920" y="1768320"/>
            <a:ext cx="9072360" cy="567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marL="482760" indent="-3524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rbel"/>
              </a:rPr>
              <a:t>Issues identified with Cray's mpich implementation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1" marL="804960" indent="-301680">
              <a:spcBef>
                <a:spcPts val="774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orbel"/>
              </a:rPr>
              <a:t>N</a:t>
            </a:r>
            <a:r>
              <a:rPr b="0" lang="en-GB" sz="3100" spc="-1" strike="noStrike">
                <a:solidFill>
                  <a:srgbClr val="000000"/>
                </a:solidFill>
                <a:latin typeface="Corbel"/>
              </a:rPr>
              <a:t>ot sufficiently aware of OST striping</a:t>
            </a:r>
            <a:endParaRPr b="0" lang="en-US" sz="3100" spc="-1" strike="noStrike">
              <a:solidFill>
                <a:srgbClr val="000000"/>
              </a:solidFill>
              <a:latin typeface="Corbel"/>
            </a:endParaRPr>
          </a:p>
          <a:p>
            <a:pPr marL="482760" indent="-3524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rbel"/>
              </a:rPr>
              <a:t>Modifying HDF5 to align/pad to OST stripes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marL="482760" indent="-3524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rbel"/>
              </a:rPr>
              <a:t>Current best strategy is to use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1" marL="804960" indent="-301680">
              <a:spcBef>
                <a:spcPts val="774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Corbel"/>
              </a:rPr>
              <a:t>2-phase IO (use aggregator nodes)</a:t>
            </a:r>
            <a:endParaRPr b="0" lang="en-US" sz="3100" spc="-1" strike="noStrike">
              <a:solidFill>
                <a:srgbClr val="000000"/>
              </a:solidFill>
              <a:latin typeface="Corbel"/>
            </a:endParaRPr>
          </a:p>
          <a:p>
            <a:pPr lvl="1" marL="804960" indent="-301680">
              <a:spcBef>
                <a:spcPts val="774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Corbel"/>
              </a:rPr>
              <a:t>#IO nodes = #OSTs </a:t>
            </a:r>
            <a:endParaRPr b="0" lang="en-US" sz="3100" spc="-1" strike="noStrike">
              <a:solidFill>
                <a:srgbClr val="000000"/>
              </a:solidFill>
              <a:latin typeface="Corbel"/>
            </a:endParaRPr>
          </a:p>
          <a:p>
            <a:pPr lvl="1" marL="804960" indent="-301680">
              <a:spcBef>
                <a:spcPts val="774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orbel"/>
              </a:rPr>
              <a:t>Match file transfer size to stripe width</a:t>
            </a:r>
            <a:endParaRPr b="0" lang="en-US" sz="3100" spc="-1" strike="noStrike">
              <a:solidFill>
                <a:srgbClr val="000000"/>
              </a:solidFill>
              <a:latin typeface="Corbel"/>
            </a:endParaRPr>
          </a:p>
          <a:p>
            <a:pPr lvl="1" marL="804960" indent="-301680">
              <a:spcBef>
                <a:spcPts val="774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Corbel"/>
              </a:rPr>
              <a:t>Simulate ‘file-per-process’ IO pattern </a:t>
            </a:r>
            <a:endParaRPr b="0" lang="en-US" sz="31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Rectangle 1" descr=""/>
          <p:cNvPicPr/>
          <p:nvPr/>
        </p:nvPicPr>
        <p:blipFill>
          <a:blip r:embed="rId1"/>
          <a:stretch/>
        </p:blipFill>
        <p:spPr>
          <a:xfrm>
            <a:off x="500040" y="291960"/>
            <a:ext cx="9082080" cy="1281240"/>
          </a:xfrm>
          <a:prstGeom prst="rect">
            <a:avLst/>
          </a:prstGeom>
          <a:ln w="0">
            <a:noFill/>
          </a:ln>
        </p:spPr>
      </p:pic>
      <p:sp>
        <p:nvSpPr>
          <p:cNvPr id="414" name=""/>
          <p:cNvSpPr txBox="1"/>
          <p:nvPr/>
        </p:nvSpPr>
        <p:spPr>
          <a:xfrm>
            <a:off x="502920" y="1768320"/>
            <a:ext cx="9072360" cy="392328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 fontScale="99000"/>
          </a:bodyPr>
          <a:p>
            <a:pPr marL="477720" indent="-3488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rbel"/>
              </a:rPr>
              <a:t>VisIt plugin developed to load icosahedral NetCDF mesh data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marL="477720" indent="-3488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rbel"/>
              </a:rPr>
              <a:t>Preliminary custom visualizations rendered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marL="477720" indent="-3488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rbel"/>
              </a:rPr>
              <a:t>Online tutorials and startup instructions published at: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1" marL="796680" indent="-298440">
              <a:spcBef>
                <a:spcPts val="774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GB" sz="31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GB" sz="3100" spc="-1" strike="noStrike">
                <a:solidFill>
                  <a:srgbClr val="000000"/>
                </a:solidFill>
                <a:latin typeface="Corbel"/>
              </a:rPr>
              <a:t>http://vis.lbl.gov/~prabhat/Incite19/</a:t>
            </a:r>
            <a:endParaRPr b="0" lang="en-US" sz="31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LNL User</cp:lastModifiedBy>
  <dcterms:modified xsi:type="dcterms:W3CDTF">2008-10-22T12:52:41Z</dcterms:modified>
  <cp:revision>19</cp:revision>
  <dc:subject/>
  <dc:title>Slide 1</dc:title>
</cp:coreProperties>
</file>